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8DFC-0F20-43BB-B878-03563C19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4FFD-FDBC-444C-95FA-6954D885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DC41-4E8A-47FC-8A0E-19E45FB97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7A70-2A4E-4E2A-95A8-2B6E5A41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76DF-F581-4AD5-893B-924CF131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6189-8177-41A4-9A4A-7CD0EA22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400B-4DE4-4A03-8873-28314807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C906-16C3-4059-851B-C33DD9F9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BA76-2816-4DBD-A6AA-FA2D382B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D937-CBA6-40C1-BFAC-123C7D64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834B-14C0-4CC3-B5EC-AF7127B2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D42A-BD47-486B-BBF6-8ED9CCE7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2789-E73E-4A14-860E-14C57022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82C3-A0DA-49F8-B346-89E72491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35F6-2DAD-4EC8-BABE-B021F7EA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9816-FBF1-4010-AC30-B50421A04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40BA-3917-4589-90B3-40F559573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0EC0-856C-4C99-939C-F08FD03A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0578-B448-4C88-A1BA-A0FBCD80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3BF6-C0A7-41B9-B6D0-9D14FBD4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ECDF-BF30-4B2E-8A21-BC86E5FA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5ED6-048D-43FF-9943-3B0605F1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97DF-A52D-45D1-AD3A-8F6A8B24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EE6A-0E06-4D57-A3A7-27D0085A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2" marL="335880" indent="-335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3" marL="335880" indent="-3358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4" marL="335880" indent="-335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5" marL="335880" indent="-335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6" marL="335880" indent="-335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36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9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484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76AD-2435-4651-9A45-4D32B2E7A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12193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7621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029200" y="609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Impact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5120" y="2742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2057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0384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7010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346C-ED15-4904-B2C3-3EA9346C5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Times New Roman"/>
              </a:rPr>
              <a:t>Click to edit the outline text format</a:t>
            </a: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  <a:p>
            <a:pPr lvl="1" marL="44316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6680" algn="ctr">
              <a:spcBef>
                <a:spcPts val="499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0200" algn="ctr">
              <a:spcBef>
                <a:spcPts val="3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73720" algn="ctr">
              <a:spcBef>
                <a:spcPts val="249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773720">
              <a:spcBef>
                <a:spcPts val="2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773720">
              <a:spcBef>
                <a:spcPts val="2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2742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Futura Md BT"/>
              </a:rPr>
              <a:t>Multimedia Web Site Design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81080" y="8377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Times New Roman"/>
              </a:rPr>
              <a:t>Chapter 13</a:t>
            </a:r>
            <a:endParaRPr b="1" lang="en-US" sz="7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Web Page Design Guidelines</a:t>
            </a:r>
            <a:endParaRPr b="0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 the objectives you have set for the sit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short amounts of text. Group sets of text on one pag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 careful with text color and background colo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 sure content is accurate and spelling is correc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Web Page Design Guidelines </a:t>
            </a:r>
            <a:r>
              <a:rPr b="1" lang="en-US" sz="2000" spc="-1" strike="noStrike">
                <a:solidFill>
                  <a:srgbClr val="000099"/>
                </a:solidFill>
                <a:latin typeface="Futura Md BT"/>
              </a:rPr>
              <a:t>(continued)</a:t>
            </a:r>
            <a:endParaRPr b="0" lang="en-US" sz="2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phics and special effects should add interest, not distrac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vigation should be friendly, consistent, and usefu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 sources for information on the site if necessary for copyrigh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ors, text formatting, navigation, and layout should be consistent throughout the sit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Building an Effective Web Site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reating a Web site is easy, but creating one that is useful and attractive takes knowledge, practice, and skill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eb Site Organization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621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 organization of the Web site is important. The site’s home page: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be the only page on a si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ten introduces the Web site’s theme and provides links to the site’s other p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648320" y="2057400"/>
            <a:ext cx="43434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eb Site File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Each web page is a file stored on a Web server, and has a unique URL which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inguishes it from the millions of other Web pages on the Intern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ables browsers to find 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eb Programming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e files for a Web site are created with programming languages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Web programming uses HTML or other markup langu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b design software lets you create a page, and the software then generates the HTML co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eb Site Goal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e most important consideration in the design of any Web site is the objective of the site.  These goals reflect the goals of the site’s publisher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Business Site Objective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 business site might have these goals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izing products or services and providing a way to purchase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izing job openings and providing a way of applying for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ing financial information for inves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ing contact information for offices or sto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ing other information about the busin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Noncommercial Site Objective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rganizations and individuals develop Web sites for a variety of purposes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ools and colleges provide distance learning and other informa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fessional and trade organizations publish announcements and other informa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 interest groups offer information or organize volunteer effor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Design Consideration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nce you have determined the objective of the site, you must consider its design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must be designed to appeal to its target audien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 and graphic hyperlinks must be well-design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out, color, text formatting, graphics, videos, and special effects provide the visual desig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must be designed to view well in all brows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4T20:33:53Z</dcterms:created>
  <dc:creator>LJ</dc:creator>
  <dc:description/>
  <dc:language>en-US</dc:language>
  <cp:lastModifiedBy>GLENCOE</cp:lastModifiedBy>
  <dcterms:modified xsi:type="dcterms:W3CDTF">2003-01-04T01:55:50Z</dcterms:modified>
  <cp:revision>6</cp:revision>
  <dc:subject/>
  <dc:title>Chapter 13 Multimedia Web Site Design</dc:title>
</cp:coreProperties>
</file>